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F60-55DB-435A-81E1-45D1DD49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E12-0892-404C-8168-2DB1998C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F66-2804-439E-A936-D019B823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B2B-3CCC-4523-9FC5-3F37238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6A4C-5016-4F3E-99A2-D5565DD0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0E6B-FDA8-4352-9E53-C838DF5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82B0-A3F8-46CA-97CB-DCB155DD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BC5B-B369-4FA9-91E1-C271F44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3DA0-D319-4697-889B-F6FFEAFF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739-3155-4B58-80AC-3CBE178C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9BE-14AE-4108-90EA-5866562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18D-C2A9-418D-B63F-F8049BFD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783D-D47E-4251-87ED-0B03E61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DFC2-D408-4AE0-A5A6-DD4A5C5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2419-88F2-4BCE-815A-D28C1D8C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7E7-E10F-47BD-86D7-B5C4BDE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30E2-15DF-4D6E-9CE9-915B0520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153-AF33-4089-84F9-34FD81A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01B-A3A0-4DC6-A55C-14FD25A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19A-3902-443B-8B86-ED0F21EF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F5C-CCD2-49BC-9922-68948F02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AF0-4F57-4510-BCB5-A446944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F5F-8200-40E2-BAE9-10451B8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314-ADBB-4BD7-AAD2-5215A0A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10F6-C847-43E8-AAF0-557CD52D6B2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878-9CE4-420D-8E03-3042B5EBC5BB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</a:t>
            </a:r>
            <a:r>
              <a:rPr b="0" lang="en-US" sz="4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Haettenschweiler"/>
              </a:rPr>
              <a:t>Magen McQua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Haettenschweiler"/>
              </a:rPr>
              <a:t>Sophomo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Lighting (Digital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4267440" cy="285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429912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Extra Credit photos - Cemetery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57516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514600" cy="369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467080" cy="37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66880" y="5715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aken At Mt. Pleasant Cemete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Extra Credit Photos - Ang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19720" cy="341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Worm’s Ey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267440" cy="3193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814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Bird’s Ey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hot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972320" cy="401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91320" y="1828800"/>
            <a:ext cx="3124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Wingdings"/>
                <a:ea typeface="Wingdings"/>
              </a:rPr>
              <a:t>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Haettenschweiler"/>
              </a:rPr>
              <a:t>Things That Define M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Hello Kitty Stick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Earring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Swirly Paper Clip(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Charm Bracel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Bus Ca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My Pirate Key Ch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ainting With Ligh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82276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4952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Outlin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372200" cy="3322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19720" y="25909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Ghosting (This is Roby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artner Project - Tawn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130640" cy="586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00600" y="26668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his was my favorite picture of her that I chose to turn into a 5x7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Partner Project – Tawnie (Cont’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3032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Haettenschweiler"/>
              </a:rPr>
              <a:t>Prop: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Kandi (The bracelet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4343400" cy="334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412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Haettenschweiler"/>
              </a:rPr>
              <a:t>Word:</a:t>
            </a: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 Solem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Self Portrait(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409920" cy="480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419720" cy="3772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5715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his is Tawni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133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This is Sarah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Free Choice – Hand Colo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60504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4960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Macro (Digital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4114800" cy="274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40384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Haettenschweiler"/>
              </a:rPr>
              <a:t>Water Drops (Digital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172040" cy="279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190760" cy="280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81480" y="3124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Patter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Haettenschweiler"/>
              </a:rPr>
              <a:t>Colo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8:28Z</dcterms:created>
  <dc:creator>bal_mlmcquade</dc:creator>
  <dc:description/>
  <dc:language>en-US</dc:language>
  <cp:lastModifiedBy>bal_mlmcquade</cp:lastModifiedBy>
  <dcterms:modified xsi:type="dcterms:W3CDTF">2009-05-22T15:29:21Z</dcterms:modified>
  <cp:revision>15</cp:revision>
  <dc:subject/>
  <dc:title>Magen McQuade</dc:title>
</cp:coreProperties>
</file>